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842993-9C77-43C0-BC4D-D071A56654A5}"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SOLAR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Planets and Dwarf Plan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SOLAR SYST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Planets and Dwarf Plan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AN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anus (19.6 AU), at 14 Earth masses, is the lightest of the outer plan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quely among the planets, it orbits the Sun on its side; its axial tilt is over ninety degrees to the eclipt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a much colder core than the other gas giants, and radiates very little heat into spa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anus has 27 known satellites, the largest ones being Titania, Oberon, Umbriel, Ariel and Miran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AN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anus (19.6 AU), at 14 Earth masses, is the lightest of the outer plane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quely among the planets, it orbits the Sun on its side; its axial tilt is over ninety degrees to the ecliptic.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a much colder core than the other gas giants, and radiates very little heat into spa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ranus has 27 known satellites, the largest ones being Titania, Oberon, Umbriel, Ariel and Mirand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PTU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ptune (30 AU), though slightly smaller than Uranus, is more massive (equivalent to 17 Earths) and therefore more dense. It radiates more internal heat, but not as much as Jupiter or Satur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ptune has 13 known satell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rgest, Triton, is geologically active, with geysers of liquid nitr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iton is the only large satellite with a retrograde orbit. Neptune is accompanied in its orbit by a number of minor planets, termed Neptune trojans, that are in 1:1 resonance with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PTU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ptune (30 AU), though slightly smaller than Uranus, is more massive (equivalent to 17 Earths) and therefore more dense. It radiates more internal heat, but not as much as Jupiter or Satur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ptune has 13 known satelli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rgest, Triton, is geologically active, with geysers of liquid nitrog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riton is the only large satellite with a retrograde orbit. Neptune is accompanied in its orbit by a number of minor planets, termed Neptune trojans, that are in 1:1 resonance with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WARF PLANE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warf planet, as defined by the International Astronomical Union (IAU), is a celestial body in direct orbit of the Sun that is massive enough that its shape is controlled by gravitational forces rather than mechanical forces (and is thus an ellipsoid), but has not cleared the neighboring region of other obj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explicitly, it is a planetary-mass object—it has sufficient mass to overcome its internal compressive strength and achieve hydrostatic equilibrium—but is neither a planet nor a satell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dwarf planet was adopted in 2006 as part of a three-way categorization of bodies orbiting the Sun, brought about by an increase in discoveries of trans-Neptunian objects that rivaled Pluto in size, and finally precipitated by the discovery of an even more massive object, Er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WARF PLANE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warf planet, as defined by the International Astronomical Union (IAU), is a celestial body in direct orbit of the Sun that is massive enough that its shape is controlled by gravitational forces rather than mechanical forces (and is thus an ellipsoid), but has not cleared the neighboring region of other objec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explicitly, it is a planetary-mass object—it has sufficient mass to overcome its internal compressive strength and achieve hydrostatic equilibrium—but is neither a planet nor a satell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rm dwarf planet was adopted in 2006 as part of a three-way categorization of bodies orbiting the Sun, brought about by an increase in discoveries of trans-Neptunian objects that rivaled Pluto in size, and finally precipitated by the discovery of an even more massive object, Eri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to is 39 AU away of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largest dwarf planet in the  Kuiper be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discovered in 1930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 longer thought to be a normal planet in our Solar System, but a dwar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largest moon, Charon, has an almost same mass with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T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uto is 39 AU away of Su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largest dwarf planet in the  Kuiper be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discovered in 1930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 longer thought to be a normal planet in our Solar System, but a dwar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largest moon, Charon, has an almost same mass with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M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make is 45.79 AU away from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smaller than Plu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brightest object in Kuiper belt after Plu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named a dwarf planet in 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MAK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make is 45.79 AU away from the Su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smaller than Plut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brightest object in Kuiper belt after Plut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named a dwarf planet in 200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UM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tance between Haumea and Sun is 43.13 A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bout the same size as Makem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two natural satell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named a dwarf planet in 20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UM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tance between Haumea and Sun is 43.13 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bout the same size as Makemak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two natural satelli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was named a dwarf planet in 200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TS ABOUT OUR SOLAR SYST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lar System consists of the Sun and its planetary system of eight planets, their moons, and other non-stellar objec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formed 4.6 billion years ago from the collapse of a giant molecular cloud. The vast majority of the system's mass is in the Sun, with most of the remaining mass contained in Jupit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smaller inner planets, Mercury, Venus, Earth and Mars, also called the terrestrial planets, are primarily composed of rock and meta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outer planets, called the gas giants, are substantially more massive than the terrestria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wo largest, Jupiter and Saturn, are composed mainly of hydrogen and helium; the two outermost planets, Uranus and Neptune, are composed largely of ices, such as water, ammonia and methane, and are often referred to separately as "ice gian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lanets have almost circular orbi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TS ABOUT OUR SOLAR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lar System consists of the Sun and its planetary system of eight planets, their moons, and other non-stellar obj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formed 4.6 billion years ago from the collapse of a giant molecular cloud. The vast majority of the system's mass is in the Sun, with most of the remaining mass contained in Jupi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smaller inner planets, Mercury, Venus, Earth and Mars, also called the terrestrial planets, are primarily composed of rock and met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outer planets, called the gas giants, are substantially more massive than the terrestria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wo largest, Jupiter and Saturn, are composed mainly of hydrogen and helium; the two outermost planets, Uranus and Neptune, are composed largely of ices, such as water, ammonia and methane, and are often referred to separately as "ice gi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planets have almost circular orb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idence suggests that the Sun's position on the main sequence puts it in the "prime of life" for a star, in that it has not yet exhausted its store of hydrogen for nuclear fu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is growing brighter; early in its history it was 70 percent as bright as it is to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is was born in the later stages of the universe's evolution, and thus contains more elements heavier than hydrogen and helium ("metals" in astronomical parlance) than older population II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lements heavier than hydrogen and helium were formed in the cores of ancient and exploding stars, so the first generation of stars had to die before the universe could be enriched with these ato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ldest stars contain few metals, while stars born later have more. This high metallicity is thought to have been crucial to the Sun's developing a planetary system, because planets form from accretion of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idence suggests that the Sun's position on the main sequence puts it in the "prime of life" for a star, in that it has not yet exhausted its store of hydrogen for nuclear fus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is growing brighter; early in its history it was 70 percent as bright as it is toda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un is was born in the later stages of the universe's evolution, and thus contains more elements heavier than hydrogen and helium ("metals" in astronomical parlance) than older population II st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lements heavier than hydrogen and helium were formed in the cores of ancient and exploding stars, so the first generation of stars had to die before the universe could be enriched with these atom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ldest stars contain few metals, while stars born later have more. This high metallicity is thought to have been crucial to the Sun's developing a planetary system, because planets form from accretion of "met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ETS CLOSE TO THE S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ury is the closest planet to the Sun, the distance between them is 0.4 A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smallest planet in our Solar System (0.055 Earth m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oesn’t have any natural satell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a  relatively large iron core and thin mantle, which have not been adequately explained y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ETS CLOSE TO THE SU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U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rcury is the closest planet to the Sun, the distance between them is 0.4 A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smallest planet in our Solar System (0.055 Earth mas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oesn’t have any natural satelli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a  relatively large iron core and thin mantle, which have not been adequately explained y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ous is 0.7 AU close to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lose in size to Earth (0.8015 Earth m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no natural satell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hottest planet in our Solar System, 400 °C and it’s also much drier than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no magnetic field</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O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ous is 0.7 AU close to the Su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lose in size to Earth (0.8015 Earth mas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no natural satelli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hottest planet in our Solar System, 400 °C and it’s also much drier than Ear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no magnetic field</a:t>
            </a:r>
            <a:br>
              <a:rPr sz="1200"/>
            </a:b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th is 1 AU close to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largest and the densest of the four planets, Mercury, Venous, M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only planet that in our Solar System where life exi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the only planet where water can be f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tmosphere is different from the other planets, because it contains 21% oxygen in order to life exis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a natural satellite, Mo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th is 1 AU close to the Su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largest and the densest of the four planets, Mercury, Venous, Ma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only planet that in our Solar System where life exi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the only planet where water can be fou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tmosphere is different from the other planets, because it contains 21% oxygen in order to life existe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a natural satellite, Mo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s is 1.5AU away from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smaller than Earth (0.5 Earth m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tmosphere contains mostly carbon diox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surface pressure is 6.1 millibars (0.6 percent of Earth’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red color is from the iron ox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two natural satellites, Deimos and Phobos, which are very ti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s is 1.5AU away from the Su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smaller than Earth (0.5 Earth mas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tmosphere contains mostly carbon dioxid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surface pressure is 6.1 millibars (0.6 percent of Earth’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red color is from the iron oxid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two natural satellites, Deimos and Phobos, which are very tin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ETS FAR FROM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PI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piter (5.2 AU), at 318 Earth masses, is 2.5 times the mass of all the other planets put toge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omposed largely of hydrogen and heliu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piter's strong internal heat creates a number of semi-permanent features in its atmosphere, such as cloud bands and the Great Red Sp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piter has 67 known satell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largest, Ganymede, Callisto, Io, and Europa, show similarities to the terrestrial planets, such as volcanism and internal hea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nymede, the largest satellite in the Solar System, is larger than Mercu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ETS FAR FROM THE SU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PI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piter (5.2 AU), at 318 Earth masses, is 2.5 times the mass of all the other planets put togeth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composed largely of hydrogen and heliu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piter's strong internal heat creates a number of semi-permanent features in its atmosphere, such as cloud bands and the Great Red Spo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piter has 67 known satellit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 largest, Ganymede, Callisto, Io, and Europa, show similarities to the terrestrial planets, such as volcanism and internal heat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nymede, the largest satellite in the Solar System, is larger than Mercur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urn (9.5 AU), distinguished by its extensive ring system, has several similarities to Jupiter, such as its atmospheric composition and magnetosphe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Saturn has 60% of Jupiter's volume, it is less than a third as massive, at 95 Earth masses, making it the least dense planet in the Solar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ngs of Saturn are made up of small ice and rock parti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urn has 62 confirmed satellites; two of which, Titan and Enceladus, show signs of geological activity, though they are largely made of 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an, the second-largest moon in the Solar System, is larger than Mercury and the only satellite in the Solar System with a substantial atmosp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UR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urn (9.5 AU), distinguished by its extensive ring system, has several similarities to Jupiter, such as its atmospheric composition and magnetosphe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Saturn has 60% of Jupiter's volume, it is less than a third as massive, at 95 Earth masses, making it the least dense planet in the Solar Syste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ings of Saturn are made up of small ice and rock parti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turn has 62 confirmed satellites; two of which, Titan and Enceladus, show signs of geological activity, though they are largely made of i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an, the second-largest moon in the Solar System, is larger than Mercury and the only satellite in the Solar System with a substantial atmosphe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818406A-8D64-445D-BC1C-0FADCED326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E238F82-248D-4265-B24D-CC7F2795EB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19B6D16-731F-41DF-A3F2-5C030C65795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7D2D390-56B9-4F0C-BFA5-F23D742380C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281870-CD62-423F-8D5E-E25F3FF3A59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CBA6C1-9B57-409C-A0EB-8D4C3942CB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5401E6-051F-4B33-BCD0-9793B2D4FE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6EF4AE-7BAE-4EC0-A63B-E88D890D23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23C7AE-E1FE-4335-A238-5F9A902B02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BD465C-9D95-4D9A-9873-225CB33C1A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57389A-01DC-4A4C-9729-E7DD750060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AF4AD9C-586B-42BB-BC7D-717B610BD7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9116DB-41E6-46AA-8593-930A6C7D79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3C249D-7DFB-4C13-869E-E4B0D3C928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3ABD52-0B06-4FDC-906A-EB0AAB970F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16AEFC-BE08-4DD6-8E20-1A0E0EB146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403521-6AF8-4FFE-8E5F-FDC8D022A4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3E3AA75-F69F-4554-9A65-D438CAEE27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6D30E3D-0AC7-4B55-9731-F9C129B75A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45ECD4B-3170-485B-941C-4F6E1CD7B1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575EC03-DDC7-4C7D-950F-20D4EAF8BC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2020344-5C55-4E53-BF0C-060CDE2265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FFEEEB1-41BA-4EA7-971E-54F82777A8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935E84-9D1B-431E-93CF-AB666F0B29E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6E5FF-32C5-42B8-A7C2-8F7523A24F2D}" type="slidenum">
              <a:rPr b="0" lang="el-GR"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49357-1E25-42F9-A64C-270E2EAE80B4}" type="slidenum">
              <a:rPr b="0" lang="el-GR"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OUR SOLAR SYSTEM</a:t>
            </a:r>
            <a:endParaRPr b="0" lang="en-US" sz="5000" spc="-1" strike="noStrike">
              <a:solidFill>
                <a:srgbClr val="000000"/>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anchor="t">
            <a:noAutofit/>
          </a:bodyPr>
          <a:p>
            <a:pPr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Narrow"/>
              </a:rPr>
              <a:t>The Sun, Planets and Dwarf Planets</a:t>
            </a:r>
            <a:endParaRPr b="0" lang="en-US" sz="3400" spc="-1" strike="noStrike">
              <a:solidFill>
                <a:srgbClr val="000000"/>
              </a:solidFill>
              <a:latin typeface="Arial"/>
            </a:endParaRPr>
          </a:p>
        </p:txBody>
      </p:sp>
      <p:sp>
        <p:nvSpPr>
          <p:cNvPr id="1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47" name="PlaceHolder 2"/>
          <p:cNvSpPr>
            <a:spLocks noGrp="1"/>
          </p:cNvSpPr>
          <p:nvPr>
            <p:ph/>
          </p:nvPr>
        </p:nvSpPr>
        <p:spPr>
          <a:xfrm>
            <a:off x="4674960" y="1980720"/>
            <a:ext cx="4011480" cy="3886200"/>
          </a:xfrm>
          <a:prstGeom prst="rect">
            <a:avLst/>
          </a:prstGeom>
          <a:noFill/>
          <a:ln w="0">
            <a:noFill/>
          </a:ln>
        </p:spPr>
        <p:txBody>
          <a:bodyPr anchor="t">
            <a:normAutofit fontScale="99000"/>
          </a:bodyPr>
          <a:p>
            <a:pPr marL="339480" indent="-3394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Narrow"/>
              </a:rPr>
              <a:t>URANUS</a:t>
            </a:r>
            <a:endParaRPr b="0" lang="en-US" sz="2000" spc="-1" strike="noStrike">
              <a:solidFill>
                <a:srgbClr val="000000"/>
              </a:solidFill>
              <a:latin typeface="Arial"/>
            </a:endParaRPr>
          </a:p>
          <a:p>
            <a:pPr marL="339480" indent="-3394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Uranus (19.6 AU), at 14 Earth masses, is the lightest of the outer planets. </a:t>
            </a:r>
            <a:endParaRPr b="0" lang="en-US" sz="2000" spc="-1" strike="noStrike">
              <a:solidFill>
                <a:srgbClr val="000000"/>
              </a:solidFill>
              <a:latin typeface="Arial"/>
            </a:endParaRPr>
          </a:p>
          <a:p>
            <a:pPr marL="339480" indent="-3394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Uniquely among the planets, it orbits the Sun on its side; its axial tilt is over ninety degrees to the ecliptic. </a:t>
            </a:r>
            <a:endParaRPr b="0" lang="en-US" sz="2000" spc="-1" strike="noStrike">
              <a:solidFill>
                <a:srgbClr val="000000"/>
              </a:solidFill>
              <a:latin typeface="Arial"/>
            </a:endParaRPr>
          </a:p>
          <a:p>
            <a:pPr marL="339480" indent="-3394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t has a much colder core than the other gas giants, and radiates very little heat into space. </a:t>
            </a:r>
            <a:endParaRPr b="0" lang="en-US" sz="2000" spc="-1" strike="noStrike">
              <a:solidFill>
                <a:srgbClr val="000000"/>
              </a:solidFill>
              <a:latin typeface="Arial"/>
            </a:endParaRPr>
          </a:p>
          <a:p>
            <a:pPr marL="339480" indent="-3394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Uranus has 27 known satellites, the largest ones being Titania, Oberon, Umbriel, Ariel and Miranda.</a:t>
            </a:r>
            <a:endParaRPr b="0" lang="en-US" sz="2000" spc="-1" strike="noStrike">
              <a:solidFill>
                <a:srgbClr val="000000"/>
              </a:solidFill>
              <a:latin typeface="Arial"/>
            </a:endParaRPr>
          </a:p>
        </p:txBody>
      </p:sp>
      <p:pic>
        <p:nvPicPr>
          <p:cNvPr id="148" name="Picture 7" descr="240px-Uranus2"/>
          <p:cNvPicPr/>
          <p:nvPr/>
        </p:nvPicPr>
        <p:blipFill>
          <a:blip r:embed="rId1"/>
          <a:stretch/>
        </p:blipFill>
        <p:spPr>
          <a:xfrm>
            <a:off x="676440" y="2268360"/>
            <a:ext cx="3235320" cy="2778480"/>
          </a:xfrm>
          <a:prstGeom prst="rect">
            <a:avLst/>
          </a:prstGeom>
          <a:ln w="0">
            <a:noFill/>
          </a:ln>
        </p:spPr>
      </p:pic>
      <p:sp>
        <p:nvSpPr>
          <p:cNvPr id="1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51" name="PlaceHolder 2"/>
          <p:cNvSpPr>
            <a:spLocks noGrp="1"/>
          </p:cNvSpPr>
          <p:nvPr>
            <p:ph/>
          </p:nvPr>
        </p:nvSpPr>
        <p:spPr>
          <a:xfrm>
            <a:off x="4674960" y="1980720"/>
            <a:ext cx="4011480" cy="3886200"/>
          </a:xfrm>
          <a:prstGeom prst="rect">
            <a:avLst/>
          </a:prstGeom>
          <a:noFill/>
          <a:ln w="0">
            <a:noFill/>
          </a:ln>
        </p:spPr>
        <p:txBody>
          <a:bodyPr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Narrow"/>
              </a:rPr>
              <a:t>NEPTUNE</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Neptune (30 AU), though slightly smaller than Uranus, is more massive (equivalent to 17 Earths) and therefore more dense. It radiates more internal heat, but not as much as Jupiter or Saturn.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Neptune has 13 known satellites. </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The largest, Triton, is geologically active, with geysers of liquid nitrogen.</a:t>
            </a: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Narrow"/>
              </a:rPr>
              <a:t> </a:t>
            </a:r>
            <a:r>
              <a:rPr b="0" lang="en-GB" sz="1800" spc="-1" strike="noStrike">
                <a:solidFill>
                  <a:srgbClr val="000000"/>
                </a:solidFill>
                <a:latin typeface="Arial Narrow"/>
              </a:rPr>
              <a:t>Triton is the only large satellite with a retrograde orbit. Neptune is accompanied in its orbit by a number of minor planets, termed Neptune trojans, that are in 1:1 resonance with it.</a:t>
            </a:r>
            <a:endParaRPr b="0" lang="en-US" sz="1800" spc="-1" strike="noStrike">
              <a:solidFill>
                <a:srgbClr val="000000"/>
              </a:solidFill>
              <a:latin typeface="Arial"/>
            </a:endParaRPr>
          </a:p>
        </p:txBody>
      </p:sp>
      <p:pic>
        <p:nvPicPr>
          <p:cNvPr id="152" name="Picture 7" descr="240px-Neptune"/>
          <p:cNvPicPr/>
          <p:nvPr/>
        </p:nvPicPr>
        <p:blipFill>
          <a:blip r:embed="rId1"/>
          <a:stretch/>
        </p:blipFill>
        <p:spPr>
          <a:xfrm>
            <a:off x="676440" y="2193840"/>
            <a:ext cx="3531960" cy="2960640"/>
          </a:xfrm>
          <a:prstGeom prst="rect">
            <a:avLst/>
          </a:prstGeom>
          <a:ln w="0">
            <a:noFill/>
          </a:ln>
        </p:spPr>
      </p:pic>
      <p:sp>
        <p:nvSpPr>
          <p:cNvPr id="1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DWARF PLANET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55" name="PlaceHolder 2"/>
          <p:cNvSpPr>
            <a:spLocks noGrp="1"/>
          </p:cNvSpPr>
          <p:nvPr>
            <p:ph/>
          </p:nvPr>
        </p:nvSpPr>
        <p:spPr>
          <a:xfrm>
            <a:off x="1476000" y="4221000"/>
            <a:ext cx="5832360" cy="2159280"/>
          </a:xfrm>
          <a:prstGeom prst="rect">
            <a:avLst/>
          </a:prstGeom>
          <a:noFill/>
          <a:ln w="0">
            <a:noFill/>
          </a:ln>
        </p:spPr>
        <p:txBody>
          <a:bodyPr anchor="t">
            <a:normAutofit fontScale="91000"/>
          </a:bodyPr>
          <a:p>
            <a:pPr marL="312120" indent="-31212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A dwarf planet, as defined by the International Astronomical Union (IAU), is a celestial body in direct orbit of the Sun that is massive enough that its shape is controlled by gravitational forces rather than mechanical forces (and is thus an ellipsoid), but has not cleared the neighboring region of other objects. </a:t>
            </a:r>
            <a:endParaRPr b="0" lang="en-US" sz="1600" spc="-1" strike="noStrike">
              <a:solidFill>
                <a:srgbClr val="000000"/>
              </a:solidFill>
              <a:latin typeface="Arial"/>
            </a:endParaRPr>
          </a:p>
          <a:p>
            <a:pPr marL="312120" indent="-31212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More explicitly, it is a planetary-mass object—it has sufficient mass to overcome its internal compressive strength and achieve hydrostatic equilibrium—but is neither a planet nor a satellite.</a:t>
            </a:r>
            <a:endParaRPr b="0" lang="en-US" sz="1600" spc="-1" strike="noStrike">
              <a:solidFill>
                <a:srgbClr val="000000"/>
              </a:solidFill>
              <a:latin typeface="Arial"/>
            </a:endParaRPr>
          </a:p>
          <a:p>
            <a:pPr marL="312120" indent="-31212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Narrow"/>
              </a:rPr>
              <a:t>The term dwarf planet was adopted in 2006 as part of a three-way categorization of bodies orbiting the Sun, brought about by an increase in discoveries of trans-Neptunian objects that rivaled Pluto in size, and finally precipitated by the discovery of an even more massive object, Eris. </a:t>
            </a:r>
            <a:endParaRPr b="0" lang="en-US" sz="1600" spc="-1" strike="noStrike">
              <a:solidFill>
                <a:srgbClr val="000000"/>
              </a:solidFill>
              <a:latin typeface="Arial"/>
            </a:endParaRPr>
          </a:p>
        </p:txBody>
      </p:sp>
      <p:pic>
        <p:nvPicPr>
          <p:cNvPr id="156" name="Picture 7" descr="449px-TheTransneptunians_Size_Albedo_Color"/>
          <p:cNvPicPr/>
          <p:nvPr/>
        </p:nvPicPr>
        <p:blipFill>
          <a:blip r:embed="rId1"/>
          <a:stretch/>
        </p:blipFill>
        <p:spPr>
          <a:xfrm>
            <a:off x="1486080" y="1992240"/>
            <a:ext cx="5314680" cy="1809720"/>
          </a:xfrm>
          <a:prstGeom prst="rect">
            <a:avLst/>
          </a:prstGeom>
          <a:ln w="0">
            <a:noFill/>
          </a:ln>
        </p:spPr>
      </p:pic>
      <p:sp>
        <p:nvSpPr>
          <p:cNvPr id="1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59" name="PlaceHolder 2"/>
          <p:cNvSpPr>
            <a:spLocks noGrp="1"/>
          </p:cNvSpPr>
          <p:nvPr>
            <p:ph/>
          </p:nvPr>
        </p:nvSpPr>
        <p:spPr>
          <a:xfrm>
            <a:off x="4674960" y="1980720"/>
            <a:ext cx="4011480" cy="3886200"/>
          </a:xfrm>
          <a:prstGeom prst="rect">
            <a:avLst/>
          </a:prstGeom>
          <a:noFill/>
          <a:ln w="0">
            <a:noFill/>
          </a:ln>
        </p:spPr>
        <p:txBody>
          <a:bodyPr anchor="t">
            <a:normAutofit fontScale="93000"/>
          </a:bodyPr>
          <a:p>
            <a:pPr marL="318960" indent="-31896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Narrow"/>
              </a:rPr>
              <a:t>PLUTO</a:t>
            </a:r>
            <a:endParaRPr b="0" lang="en-US" sz="2400" spc="-1" strike="noStrike">
              <a:solidFill>
                <a:srgbClr val="000000"/>
              </a:solidFill>
              <a:latin typeface="Arial"/>
            </a:endParaRPr>
          </a:p>
          <a:p>
            <a:pPr marL="318960" indent="-31896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Pluto is 39 AU away of Sun</a:t>
            </a:r>
            <a:endParaRPr b="0" lang="en-US" sz="2400" spc="-1" strike="noStrike">
              <a:solidFill>
                <a:srgbClr val="000000"/>
              </a:solidFill>
              <a:latin typeface="Arial"/>
            </a:endParaRPr>
          </a:p>
          <a:p>
            <a:pPr marL="318960" indent="-31896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t is the largest dwarf planet in the  Kuiper belt</a:t>
            </a:r>
            <a:endParaRPr b="0" lang="en-US" sz="2400" spc="-1" strike="noStrike">
              <a:solidFill>
                <a:srgbClr val="000000"/>
              </a:solidFill>
              <a:latin typeface="Arial"/>
            </a:endParaRPr>
          </a:p>
          <a:p>
            <a:pPr marL="318960" indent="-31896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t was discovered in 1930 </a:t>
            </a:r>
            <a:endParaRPr b="0" lang="en-US" sz="2400" spc="-1" strike="noStrike">
              <a:solidFill>
                <a:srgbClr val="000000"/>
              </a:solidFill>
              <a:latin typeface="Arial"/>
            </a:endParaRPr>
          </a:p>
          <a:p>
            <a:pPr marL="318960" indent="-31896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t is no longer thought to be a normal planet in our Solar System, but a dwarf</a:t>
            </a:r>
            <a:endParaRPr b="0" lang="en-US" sz="2400" spc="-1" strike="noStrike">
              <a:solidFill>
                <a:srgbClr val="000000"/>
              </a:solidFill>
              <a:latin typeface="Arial"/>
            </a:endParaRPr>
          </a:p>
          <a:p>
            <a:pPr marL="318960" indent="-31896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t’s largest moon, Charon, has an almost same mass with it</a:t>
            </a:r>
            <a:endParaRPr b="0" lang="en-US" sz="2400" spc="-1" strike="noStrike">
              <a:solidFill>
                <a:srgbClr val="000000"/>
              </a:solidFill>
              <a:latin typeface="Arial"/>
            </a:endParaRPr>
          </a:p>
        </p:txBody>
      </p:sp>
      <p:pic>
        <p:nvPicPr>
          <p:cNvPr id="160" name="Picture 7" descr="220px-Pluto-map-hs-2010-06-d270"/>
          <p:cNvPicPr/>
          <p:nvPr/>
        </p:nvPicPr>
        <p:blipFill>
          <a:blip r:embed="rId1"/>
          <a:stretch/>
        </p:blipFill>
        <p:spPr>
          <a:xfrm>
            <a:off x="523800" y="2268360"/>
            <a:ext cx="3773520" cy="2975040"/>
          </a:xfrm>
          <a:prstGeom prst="rect">
            <a:avLst/>
          </a:prstGeom>
          <a:ln w="0">
            <a:noFill/>
          </a:ln>
        </p:spPr>
      </p:pic>
      <p:sp>
        <p:nvSpPr>
          <p:cNvPr id="1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63" name="PlaceHolder 2"/>
          <p:cNvSpPr>
            <a:spLocks noGrp="1"/>
          </p:cNvSpPr>
          <p:nvPr>
            <p:ph/>
          </p:nvPr>
        </p:nvSpPr>
        <p:spPr>
          <a:xfrm>
            <a:off x="4674960" y="1980720"/>
            <a:ext cx="4011480" cy="38862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Narrow"/>
              </a:rPr>
              <a:t>MAKEMAKE</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Makemake is 45.79 AU away from the Sun</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t is smaller than Pluto</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t is the brightest object in Kuiper belt after Pluto</a:t>
            </a:r>
            <a:endParaRPr b="0" lang="en-US" sz="28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t was named a dwarf planet in 2008</a:t>
            </a:r>
            <a:endParaRPr b="0" lang="en-US" sz="2800" spc="-1" strike="noStrike">
              <a:solidFill>
                <a:srgbClr val="000000"/>
              </a:solidFill>
              <a:latin typeface="Arial"/>
            </a:endParaRPr>
          </a:p>
        </p:txBody>
      </p:sp>
      <p:pic>
        <p:nvPicPr>
          <p:cNvPr id="164" name="Picture 7" descr="220px-2005FY9art"/>
          <p:cNvPicPr/>
          <p:nvPr/>
        </p:nvPicPr>
        <p:blipFill>
          <a:blip r:embed="rId1"/>
          <a:stretch/>
        </p:blipFill>
        <p:spPr>
          <a:xfrm>
            <a:off x="1106640" y="2341440"/>
            <a:ext cx="2805120" cy="2419560"/>
          </a:xfrm>
          <a:prstGeom prst="rect">
            <a:avLst/>
          </a:prstGeom>
          <a:ln w="0">
            <a:noFill/>
          </a:ln>
        </p:spPr>
      </p:pic>
      <p:sp>
        <p:nvSpPr>
          <p:cNvPr id="1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67" name="PlaceHolder 2"/>
          <p:cNvSpPr>
            <a:spLocks noGrp="1"/>
          </p:cNvSpPr>
          <p:nvPr>
            <p:ph/>
          </p:nvPr>
        </p:nvSpPr>
        <p:spPr>
          <a:xfrm>
            <a:off x="5076360" y="2636640"/>
            <a:ext cx="2971800" cy="4221000"/>
          </a:xfrm>
          <a:prstGeom prst="rect">
            <a:avLst/>
          </a:prstGeom>
          <a:noFill/>
          <a:ln w="0">
            <a:noFill/>
          </a:ln>
        </p:spPr>
        <p:txBody>
          <a:bodyPr anchor="t">
            <a:normAutofit/>
          </a:bodyPr>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Narrow"/>
              </a:rPr>
              <a:t>HAUMEA</a:t>
            </a:r>
            <a:endParaRPr b="0" lang="en-US" sz="18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he distance between Haumea and Sun is 43.13 AU</a:t>
            </a:r>
            <a:endParaRPr b="0" lang="en-US" sz="18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t is about the same size as Makemake</a:t>
            </a:r>
            <a:endParaRPr b="0" lang="en-US" sz="18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t has two natural satellites</a:t>
            </a:r>
            <a:endParaRPr b="0" lang="en-US" sz="18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t was named a dwarf planet in 2008</a:t>
            </a:r>
            <a:endParaRPr b="0" lang="en-US" sz="1800" spc="-1" strike="noStrike">
              <a:solidFill>
                <a:srgbClr val="000000"/>
              </a:solidFill>
              <a:latin typeface="Arial"/>
            </a:endParaRPr>
          </a:p>
        </p:txBody>
      </p:sp>
      <p:pic>
        <p:nvPicPr>
          <p:cNvPr id="168" name="Picture 7" descr="220px-2003EL61art"/>
          <p:cNvPicPr/>
          <p:nvPr/>
        </p:nvPicPr>
        <p:blipFill>
          <a:blip r:embed="rId1"/>
          <a:stretch/>
        </p:blipFill>
        <p:spPr>
          <a:xfrm>
            <a:off x="906480" y="2203560"/>
            <a:ext cx="3314520" cy="2843280"/>
          </a:xfrm>
          <a:prstGeom prst="rect">
            <a:avLst/>
          </a:prstGeom>
          <a:ln w="0">
            <a:noFill/>
          </a:ln>
        </p:spPr>
      </p:pic>
      <p:sp>
        <p:nvSpPr>
          <p:cNvPr id="1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ACTS ABOUT OUR SOLAR SYSTEM</a:t>
            </a:r>
            <a:endParaRPr b="0" lang="en-US" sz="4000" spc="-1" strike="noStrike">
              <a:solidFill>
                <a:srgbClr val="000000"/>
              </a:solidFill>
              <a:latin typeface="Arial"/>
            </a:endParaRPr>
          </a:p>
        </p:txBody>
      </p:sp>
      <p:sp>
        <p:nvSpPr>
          <p:cNvPr id="117"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The Solar System consists of the Sun and its planetary system of eight planets, their moons, and other non-stellar objects.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It formed 4.6 billion years ago from the collapse of a giant molecular cloud. The vast majority of the system's mass is in the Sun, with most of the remaining mass contained in Jupiter.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The four smaller inner planets, Mercury, Venus, Earth and Mars, also called the terrestrial planets, are primarily composed of rock and metal.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The four outer planets, called the gas giants, are substantially more massive than the terrestrials.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The two largest, Jupiter and Saturn, are composed mainly of hydrogen and helium; the two outermost planets, Uranus and Neptune, are composed largely of ices, such as water, ammonia and methane, and are often referred to separately as "ice giants".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All planets have almost circular orbits.</a:t>
            </a:r>
            <a:endParaRPr b="0" lang="en-US" sz="2000" spc="-1" strike="noStrike">
              <a:solidFill>
                <a:srgbClr val="000000"/>
              </a:solidFill>
              <a:latin typeface="Arial"/>
            </a:endParaRPr>
          </a:p>
        </p:txBody>
      </p:sp>
      <p:sp>
        <p:nvSpPr>
          <p:cNvPr id="1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u="sng">
                <a:solidFill>
                  <a:srgbClr val="000000"/>
                </a:solidFill>
                <a:uFillTx/>
                <a:latin typeface="Arial"/>
              </a:rPr>
              <a:t>THE SUN</a:t>
            </a:r>
            <a:endParaRPr b="0" lang="en-US" sz="4400" spc="-1" strike="noStrike">
              <a:solidFill>
                <a:srgbClr val="000000"/>
              </a:solidFill>
              <a:latin typeface="Arial"/>
            </a:endParaRPr>
          </a:p>
        </p:txBody>
      </p:sp>
      <p:sp>
        <p:nvSpPr>
          <p:cNvPr id="120" name="PlaceHolder 2"/>
          <p:cNvSpPr>
            <a:spLocks noGrp="1"/>
          </p:cNvSpPr>
          <p:nvPr>
            <p:ph/>
          </p:nvPr>
        </p:nvSpPr>
        <p:spPr>
          <a:xfrm>
            <a:off x="457200" y="1980720"/>
            <a:ext cx="8229600" cy="388620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Evidence suggests that the Sun's position on the main sequence puts it in the "prime of life" for a star, in that it has not yet exhausted its store of hydrogen for nuclear fusion.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The Sun is growing brighter; early in its history it was 70 percent as bright as it is today.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The Sun is was born in the later stages of the universe's evolution, and thus contains more elements heavier than hydrogen and helium ("metals" in astronomical parlance) than older population II stars.</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 </a:t>
            </a:r>
            <a:r>
              <a:rPr b="0" lang="en-GB" sz="2000" spc="-1" strike="noStrike">
                <a:solidFill>
                  <a:srgbClr val="000000"/>
                </a:solidFill>
                <a:latin typeface="Arial Narrow"/>
              </a:rPr>
              <a:t>Elements heavier than hydrogen and helium were formed in the cores of ancient and exploding stars, so the first generation of stars had to die before the universe could be enriched with these atoms.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Narrow"/>
              </a:rPr>
              <a:t>The oldest stars contain few metals, while stars born later have more. This high metallicity is thought to have been crucial to the Sun's developing a planetary system, because planets form from accretion of "metals".</a:t>
            </a:r>
            <a:endParaRPr b="0" lang="en-US" sz="2000" spc="-1" strike="noStrike">
              <a:solidFill>
                <a:srgbClr val="000000"/>
              </a:solidFill>
              <a:latin typeface="Arial"/>
            </a:endParaRPr>
          </a:p>
        </p:txBody>
      </p:sp>
      <p:sp>
        <p:nvSpPr>
          <p:cNvPr id="1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Arial"/>
              </a:rPr>
              <a:t>PLANETS CLOSE TO THE SUN</a:t>
            </a:r>
            <a:r>
              <a:rPr b="0" lang="el-GR" sz="4400" spc="-1" strike="noStrike">
                <a:solidFill>
                  <a:srgbClr val="000000"/>
                </a:solidFill>
                <a:latin typeface="Arial"/>
              </a:rPr>
              <a:t> </a:t>
            </a:r>
            <a:endParaRPr b="0" lang="en-US" sz="4400" spc="-1" strike="noStrike">
              <a:solidFill>
                <a:srgbClr val="000000"/>
              </a:solidFill>
              <a:latin typeface="Arial"/>
            </a:endParaRPr>
          </a:p>
        </p:txBody>
      </p:sp>
      <p:sp>
        <p:nvSpPr>
          <p:cNvPr id="123" name="PlaceHolder 2"/>
          <p:cNvSpPr>
            <a:spLocks noGrp="1"/>
          </p:cNvSpPr>
          <p:nvPr>
            <p:ph/>
          </p:nvPr>
        </p:nvSpPr>
        <p:spPr>
          <a:xfrm>
            <a:off x="4674960" y="1980720"/>
            <a:ext cx="4011480" cy="388620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Narrow"/>
              </a:rPr>
              <a:t>MERCURY</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ercury is the closest planet to the Sun, the distance between them is 0.4 AU</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 is the smallest planet in our Solar System (0.055 Earth masses)</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 doesn’t have any natural satellites</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 has a  relatively large iron core and thin mantle, which have not been adequately explained yet</a:t>
            </a:r>
            <a:endParaRPr b="0" lang="en-US" sz="2000" spc="-1" strike="noStrike">
              <a:solidFill>
                <a:srgbClr val="000000"/>
              </a:solidFill>
              <a:latin typeface="Arial"/>
            </a:endParaRPr>
          </a:p>
        </p:txBody>
      </p:sp>
      <p:pic>
        <p:nvPicPr>
          <p:cNvPr id="124" name="Picture 6" descr="mercury"/>
          <p:cNvPicPr/>
          <p:nvPr/>
        </p:nvPicPr>
        <p:blipFill>
          <a:blip r:embed="rId1"/>
          <a:stretch/>
        </p:blipFill>
        <p:spPr>
          <a:xfrm>
            <a:off x="1019160" y="2492280"/>
            <a:ext cx="2892600" cy="2444760"/>
          </a:xfrm>
          <a:prstGeom prst="rect">
            <a:avLst/>
          </a:prstGeom>
          <a:ln w="0">
            <a:noFill/>
          </a:ln>
        </p:spPr>
      </p:pic>
      <p:sp>
        <p:nvSpPr>
          <p:cNvPr id="12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27" name="PlaceHolder 2"/>
          <p:cNvSpPr>
            <a:spLocks noGrp="1"/>
          </p:cNvSpPr>
          <p:nvPr>
            <p:ph/>
          </p:nvPr>
        </p:nvSpPr>
        <p:spPr>
          <a:xfrm>
            <a:off x="4674960" y="1980720"/>
            <a:ext cx="4011480" cy="3886200"/>
          </a:xfrm>
          <a:prstGeom prst="rect">
            <a:avLst/>
          </a:prstGeom>
          <a:noFill/>
          <a:ln w="0">
            <a:noFill/>
          </a:ln>
        </p:spPr>
        <p:txBody>
          <a:bodyPr anchor="t">
            <a:normAutofit fontScale="87000"/>
          </a:bodyPr>
          <a:p>
            <a:pPr marL="298440" indent="-2984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Narrow"/>
              </a:rPr>
              <a:t>VENOUS</a:t>
            </a:r>
            <a:endParaRPr b="0" lang="en-US" sz="2400" spc="-1" strike="noStrike">
              <a:solidFill>
                <a:srgbClr val="000000"/>
              </a:solidFill>
              <a:latin typeface="Arial"/>
            </a:endParaRPr>
          </a:p>
          <a:p>
            <a:pPr marL="298440" indent="-2984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Venous is 0.7 AU close to the Sun</a:t>
            </a:r>
            <a:endParaRPr b="0" lang="en-US" sz="2400" spc="-1" strike="noStrike">
              <a:solidFill>
                <a:srgbClr val="000000"/>
              </a:solidFill>
              <a:latin typeface="Arial"/>
            </a:endParaRPr>
          </a:p>
          <a:p>
            <a:pPr marL="298440" indent="-2984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t is close in size to Earth (0.8015 Earth masses)</a:t>
            </a:r>
            <a:endParaRPr b="0" lang="en-US" sz="2400" spc="-1" strike="noStrike">
              <a:solidFill>
                <a:srgbClr val="000000"/>
              </a:solidFill>
              <a:latin typeface="Arial"/>
            </a:endParaRPr>
          </a:p>
          <a:p>
            <a:pPr marL="298440" indent="-2984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t has no natural satellites</a:t>
            </a:r>
            <a:endParaRPr b="0" lang="en-US" sz="2400" spc="-1" strike="noStrike">
              <a:solidFill>
                <a:srgbClr val="000000"/>
              </a:solidFill>
              <a:latin typeface="Arial"/>
            </a:endParaRPr>
          </a:p>
          <a:p>
            <a:pPr marL="298440" indent="-2984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t is the hottest planet in our Solar System, 400 °C and it’s also much drier than Earth</a:t>
            </a:r>
            <a:endParaRPr b="0" lang="en-US" sz="2400" spc="-1" strike="noStrike">
              <a:solidFill>
                <a:srgbClr val="000000"/>
              </a:solidFill>
              <a:latin typeface="Arial"/>
            </a:endParaRPr>
          </a:p>
          <a:p>
            <a:pPr marL="298440" indent="-29844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It has no magnetic field</a:t>
            </a:r>
            <a:br>
              <a:rPr sz="2400"/>
            </a:br>
            <a:br>
              <a:rPr sz="2400"/>
            </a:br>
            <a:r>
              <a:rPr b="1" lang="en-US" sz="2400" spc="-1" strike="noStrike" u="sng">
                <a:solidFill>
                  <a:srgbClr val="000000"/>
                </a:solidFill>
                <a:uFillTx/>
                <a:latin typeface="Arial Narrow"/>
              </a:rPr>
              <a:t> </a:t>
            </a:r>
            <a:endParaRPr b="0" lang="en-US" sz="2400" spc="-1" strike="noStrike">
              <a:solidFill>
                <a:srgbClr val="000000"/>
              </a:solidFill>
              <a:latin typeface="Arial"/>
            </a:endParaRPr>
          </a:p>
        </p:txBody>
      </p:sp>
      <p:pic>
        <p:nvPicPr>
          <p:cNvPr id="128" name="Picture 7" descr="venous"/>
          <p:cNvPicPr/>
          <p:nvPr/>
        </p:nvPicPr>
        <p:blipFill>
          <a:blip r:embed="rId1"/>
          <a:stretch/>
        </p:blipFill>
        <p:spPr>
          <a:xfrm>
            <a:off x="1019160" y="2417760"/>
            <a:ext cx="2892600" cy="2519280"/>
          </a:xfrm>
          <a:prstGeom prst="rect">
            <a:avLst/>
          </a:prstGeom>
          <a:ln w="0">
            <a:noFill/>
          </a:ln>
        </p:spPr>
      </p:pic>
      <p:sp>
        <p:nvSpPr>
          <p:cNvPr id="1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31" name="PlaceHolder 2"/>
          <p:cNvSpPr>
            <a:spLocks noGrp="1"/>
          </p:cNvSpPr>
          <p:nvPr>
            <p:ph/>
          </p:nvPr>
        </p:nvSpPr>
        <p:spPr>
          <a:xfrm>
            <a:off x="4674960" y="1980720"/>
            <a:ext cx="4011480" cy="3886200"/>
          </a:xfrm>
          <a:prstGeom prst="rect">
            <a:avLst/>
          </a:prstGeom>
          <a:noFill/>
          <a:ln w="0">
            <a:noFill/>
          </a:ln>
        </p:spPr>
        <p:txBody>
          <a:bodyPr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Arial Narrow"/>
              </a:rPr>
              <a:t>EARTH</a:t>
            </a:r>
            <a:endParaRPr b="0" lang="en-US" sz="3200" spc="-1" strike="noStrike">
              <a:solidFill>
                <a:srgbClr val="000000"/>
              </a:solidFill>
              <a:latin typeface="Arial"/>
            </a:endParaRPr>
          </a:p>
          <a:p>
            <a:pPr marL="329040" indent="-329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Earth is 1 AU close to the Sun</a:t>
            </a:r>
            <a:endParaRPr b="0" lang="en-US" sz="2000" spc="-1" strike="noStrike">
              <a:solidFill>
                <a:srgbClr val="000000"/>
              </a:solidFill>
              <a:latin typeface="Arial"/>
            </a:endParaRPr>
          </a:p>
          <a:p>
            <a:pPr marL="329040" indent="-329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 is the largest and the densest of the four planets, Mercury, Venous, Mars</a:t>
            </a:r>
            <a:endParaRPr b="0" lang="en-US" sz="2000" spc="-1" strike="noStrike">
              <a:solidFill>
                <a:srgbClr val="000000"/>
              </a:solidFill>
              <a:latin typeface="Arial"/>
            </a:endParaRPr>
          </a:p>
          <a:p>
            <a:pPr marL="329040" indent="-329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 is the only planet that in our Solar System where life exist</a:t>
            </a:r>
            <a:endParaRPr b="0" lang="en-US" sz="2000" spc="-1" strike="noStrike">
              <a:solidFill>
                <a:srgbClr val="000000"/>
              </a:solidFill>
              <a:latin typeface="Arial"/>
            </a:endParaRPr>
          </a:p>
          <a:p>
            <a:pPr marL="329040" indent="-329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s the only planet where water can be found</a:t>
            </a:r>
            <a:endParaRPr b="0" lang="en-US" sz="2000" spc="-1" strike="noStrike">
              <a:solidFill>
                <a:srgbClr val="000000"/>
              </a:solidFill>
              <a:latin typeface="Arial"/>
            </a:endParaRPr>
          </a:p>
          <a:p>
            <a:pPr marL="329040" indent="-329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s atmosphere is different from the other planets, because it contains 21% oxygen in order to life existence</a:t>
            </a:r>
            <a:endParaRPr b="0" lang="en-US" sz="2000" spc="-1" strike="noStrike">
              <a:solidFill>
                <a:srgbClr val="000000"/>
              </a:solidFill>
              <a:latin typeface="Arial"/>
            </a:endParaRPr>
          </a:p>
          <a:p>
            <a:pPr marL="329040" indent="-32904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 has a natural satellite, Moon.</a:t>
            </a:r>
            <a:endParaRPr b="0" lang="en-US" sz="2000" spc="-1" strike="noStrike">
              <a:solidFill>
                <a:srgbClr val="000000"/>
              </a:solidFill>
              <a:latin typeface="Arial"/>
            </a:endParaRPr>
          </a:p>
        </p:txBody>
      </p:sp>
      <p:pic>
        <p:nvPicPr>
          <p:cNvPr id="132" name="Picture 7" descr="earth"/>
          <p:cNvPicPr/>
          <p:nvPr/>
        </p:nvPicPr>
        <p:blipFill>
          <a:blip r:embed="rId1"/>
          <a:stretch/>
        </p:blipFill>
        <p:spPr>
          <a:xfrm>
            <a:off x="985680" y="2417760"/>
            <a:ext cx="2891160" cy="2595600"/>
          </a:xfrm>
          <a:prstGeom prst="rect">
            <a:avLst/>
          </a:prstGeom>
          <a:ln w="0">
            <a:noFill/>
          </a:ln>
        </p:spPr>
      </p:pic>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35" name="PlaceHolder 2"/>
          <p:cNvSpPr>
            <a:spLocks noGrp="1"/>
          </p:cNvSpPr>
          <p:nvPr>
            <p:ph/>
          </p:nvPr>
        </p:nvSpPr>
        <p:spPr>
          <a:xfrm>
            <a:off x="4674960" y="1980720"/>
            <a:ext cx="4011480" cy="3886200"/>
          </a:xfrm>
          <a:prstGeom prst="rect">
            <a:avLst/>
          </a:prstGeom>
          <a:noFill/>
          <a:ln w="0">
            <a:noFill/>
          </a:ln>
        </p:spPr>
        <p:txBody>
          <a:bodyPr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Narrow"/>
              </a:rPr>
              <a:t>MARS</a:t>
            </a:r>
            <a:r>
              <a:rPr b="0" lang="el-GR" sz="2000" spc="-1" strike="noStrike">
                <a:solidFill>
                  <a:srgbClr val="000000"/>
                </a:solidFill>
                <a:latin typeface="Arial Narrow"/>
              </a:rPr>
              <a:t>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Mars is 1.5AU away from the Sun</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 is smaller than Earth (0.5 Earth masses)</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s atmosphere contains mostly carbon dioxide </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s surface pressure is 6.1 millibars (0.6 percent of Earth’s)</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s red color is from the iron oxide</a:t>
            </a: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It has two natural satellites, Deimos and Phobos, which are very tiny</a:t>
            </a:r>
            <a:endParaRPr b="0" lang="en-US" sz="2000" spc="-1" strike="noStrike">
              <a:solidFill>
                <a:srgbClr val="000000"/>
              </a:solidFill>
              <a:latin typeface="Arial"/>
            </a:endParaRPr>
          </a:p>
        </p:txBody>
      </p:sp>
      <p:pic>
        <p:nvPicPr>
          <p:cNvPr id="136" name="Picture 7" descr="mars"/>
          <p:cNvPicPr/>
          <p:nvPr/>
        </p:nvPicPr>
        <p:blipFill>
          <a:blip r:embed="rId1"/>
          <a:stretch/>
        </p:blipFill>
        <p:spPr>
          <a:xfrm>
            <a:off x="987480" y="2268360"/>
            <a:ext cx="2954160" cy="2640240"/>
          </a:xfrm>
          <a:prstGeom prst="rect">
            <a:avLst/>
          </a:prstGeom>
          <a:ln w="0">
            <a:noFill/>
          </a:ln>
        </p:spPr>
      </p:pic>
      <p:sp>
        <p:nvSpPr>
          <p:cNvPr id="13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u="sng">
                <a:solidFill>
                  <a:srgbClr val="000000"/>
                </a:solidFill>
                <a:uFillTx/>
                <a:latin typeface="Arial"/>
              </a:rPr>
              <a:t>PLANETS FAR FROM THE SUN</a:t>
            </a:r>
            <a:endParaRPr b="0" lang="en-US" sz="4400" spc="-1" strike="noStrike">
              <a:solidFill>
                <a:srgbClr val="000000"/>
              </a:solidFill>
              <a:latin typeface="Arial"/>
            </a:endParaRPr>
          </a:p>
        </p:txBody>
      </p:sp>
      <p:sp>
        <p:nvSpPr>
          <p:cNvPr id="139" name="PlaceHolder 2"/>
          <p:cNvSpPr>
            <a:spLocks noGrp="1"/>
          </p:cNvSpPr>
          <p:nvPr>
            <p:ph/>
          </p:nvPr>
        </p:nvSpPr>
        <p:spPr>
          <a:xfrm>
            <a:off x="4674960" y="1980720"/>
            <a:ext cx="4011480" cy="3886200"/>
          </a:xfrm>
          <a:prstGeom prst="rect">
            <a:avLst/>
          </a:prstGeom>
          <a:noFill/>
          <a:ln w="0">
            <a:noFill/>
          </a:ln>
        </p:spPr>
        <p:txBody>
          <a:bodyPr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Narrow"/>
              </a:rPr>
              <a:t>JUPITER</a:t>
            </a:r>
            <a:endParaRPr b="0" lang="en-US" sz="20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Jupiter (5.2 AU), at 318 Earth masses, is 2.5 times the mass of all the other planets put together.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It is composed largely of hydrogen and helium.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Jupiter's strong internal heat creates a number of semi-permanent features in its atmosphere, such as cloud bands and the Great Red Spot.</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Jupiter has 67 known satellites.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The four largest, Ganymede, Callisto, Io, and Europa, show similarities to the terrestrial planets, such as volcanism and internal heating. </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Ganymede, the largest satellite in the Solar System, is larger than Mercury. </a:t>
            </a:r>
            <a:endParaRPr b="0" lang="en-US" sz="1600" spc="-1" strike="noStrike">
              <a:solidFill>
                <a:srgbClr val="000000"/>
              </a:solidFill>
              <a:latin typeface="Arial"/>
            </a:endParaRPr>
          </a:p>
        </p:txBody>
      </p:sp>
      <p:pic>
        <p:nvPicPr>
          <p:cNvPr id="140" name="Picture 7" descr="Jupiter_by_Cassini-Huygens"/>
          <p:cNvPicPr/>
          <p:nvPr/>
        </p:nvPicPr>
        <p:blipFill>
          <a:blip r:embed="rId1"/>
          <a:stretch/>
        </p:blipFill>
        <p:spPr>
          <a:xfrm>
            <a:off x="600120" y="2193840"/>
            <a:ext cx="3532320" cy="3087720"/>
          </a:xfrm>
          <a:prstGeom prst="rect">
            <a:avLst/>
          </a:prstGeom>
          <a:ln w="0">
            <a:noFill/>
          </a:ln>
        </p:spPr>
      </p:pic>
      <p:sp>
        <p:nvSpPr>
          <p:cNvPr id="1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43" name="PlaceHolder 2"/>
          <p:cNvSpPr>
            <a:spLocks noGrp="1"/>
          </p:cNvSpPr>
          <p:nvPr>
            <p:ph/>
          </p:nvPr>
        </p:nvSpPr>
        <p:spPr>
          <a:xfrm>
            <a:off x="4674960" y="1980720"/>
            <a:ext cx="4011480" cy="3886200"/>
          </a:xfrm>
          <a:prstGeom prst="rect">
            <a:avLst/>
          </a:prstGeom>
          <a:noFill/>
          <a:ln w="0">
            <a:noFill/>
          </a:ln>
        </p:spPr>
        <p:txBody>
          <a:bodyPr anchor="t">
            <a:normAutofit fontScale="95000"/>
          </a:bodyPr>
          <a:p>
            <a:pPr marL="325800" indent="-32580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Arial Narrow"/>
              </a:rPr>
              <a:t>SATURN</a:t>
            </a:r>
            <a:endParaRPr b="0" lang="en-US" sz="1600" spc="-1" strike="noStrike">
              <a:solidFill>
                <a:srgbClr val="000000"/>
              </a:solidFill>
              <a:latin typeface="Arial"/>
            </a:endParaRPr>
          </a:p>
          <a:p>
            <a:pPr marL="325800" indent="-32580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Saturn (9.5 AU), distinguished by its extensive ring system, has several similarities to Jupiter, such as its atmospheric composition and magnetosphere. </a:t>
            </a:r>
            <a:endParaRPr b="0" lang="en-US" sz="1600" spc="-1" strike="noStrike">
              <a:solidFill>
                <a:srgbClr val="000000"/>
              </a:solidFill>
              <a:latin typeface="Arial"/>
            </a:endParaRPr>
          </a:p>
          <a:p>
            <a:pPr marL="325800" indent="-32580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Although Saturn has 60% of Jupiter's volume, it is less than a third as massive, at 95 Earth masses, making it the least dense planet in the Solar System. </a:t>
            </a:r>
            <a:endParaRPr b="0" lang="en-US" sz="1600" spc="-1" strike="noStrike">
              <a:solidFill>
                <a:srgbClr val="000000"/>
              </a:solidFill>
              <a:latin typeface="Arial"/>
            </a:endParaRPr>
          </a:p>
          <a:p>
            <a:pPr marL="325800" indent="-32580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The rings of Saturn are made up of small ice and rock particles.</a:t>
            </a:r>
            <a:endParaRPr b="0" lang="en-US" sz="1600" spc="-1" strike="noStrike">
              <a:solidFill>
                <a:srgbClr val="000000"/>
              </a:solidFill>
              <a:latin typeface="Arial"/>
            </a:endParaRPr>
          </a:p>
          <a:p>
            <a:pPr marL="325800" indent="-32580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Saturn has 62 confirmed satellites; two of which, Titan and Enceladus, show signs of geological activity, though they are largely made of ice. </a:t>
            </a:r>
            <a:endParaRPr b="0" lang="en-US" sz="1600" spc="-1" strike="noStrike">
              <a:solidFill>
                <a:srgbClr val="000000"/>
              </a:solidFill>
              <a:latin typeface="Arial"/>
            </a:endParaRPr>
          </a:p>
          <a:p>
            <a:pPr marL="325800" indent="-32580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Titan, the second-largest moon in the Solar System, is larger than Mercury and the only satellite in the Solar System with a substantial atmosphere.</a:t>
            </a:r>
            <a:endParaRPr b="0" lang="en-US" sz="1600" spc="-1" strike="noStrike">
              <a:solidFill>
                <a:srgbClr val="000000"/>
              </a:solidFill>
              <a:latin typeface="Arial"/>
            </a:endParaRPr>
          </a:p>
        </p:txBody>
      </p:sp>
      <p:pic>
        <p:nvPicPr>
          <p:cNvPr id="144" name="Picture 7" descr="280px-Saturn-cassini-March-27-2004"/>
          <p:cNvPicPr/>
          <p:nvPr/>
        </p:nvPicPr>
        <p:blipFill>
          <a:blip r:embed="rId1"/>
          <a:stretch/>
        </p:blipFill>
        <p:spPr>
          <a:xfrm>
            <a:off x="733320" y="2268360"/>
            <a:ext cx="3256200" cy="2630520"/>
          </a:xfrm>
          <a:prstGeom prst="rect">
            <a:avLst/>
          </a:prstGeom>
          <a:ln w="0">
            <a:noFill/>
          </a:ln>
        </p:spPr>
      </p:pic>
      <p:sp>
        <p:nvSpPr>
          <p:cNvPr id="1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p:txBody>
      </p:sp>
    </p:spTree>
  </p:cSld>
  <p:transition spd="med" advTm="10000">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17T13:30:41Z</dcterms:created>
  <dc:creator>KostasDemertzidis</dc:creator>
  <dc:description/>
  <dc:language>en-US</dc:language>
  <cp:lastModifiedBy>Legion</cp:lastModifiedBy>
  <dcterms:modified xsi:type="dcterms:W3CDTF">2017-01-26T10:05:17Z</dcterms:modified>
  <cp:revision>16</cp:revision>
  <dc:subject/>
  <dc:title>OUR SOLAR SYSTEM</dc:title>
</cp:coreProperties>
</file>